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C1A9A-1500-419C-BF72-874D3B1EA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71DDA-AE09-41FE-8BEA-78E17F1B7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99FD-37EA-479A-AD76-E754A49EA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E012-B122-45B5-BDC2-EB7E0926A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A4FC-8A00-4578-B4E8-203373A1C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EB1B-C798-45AC-B3F3-1B763BE00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C169-5592-4A70-807E-7920897E9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D1F2-58A6-453A-8B34-65B783D0C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5FDF-C599-4225-B2E4-9B91FCCDA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BD5B-ED24-4D01-B5C6-1DBFEF3F6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D7CA-7669-422C-B8DE-9573B4E96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389A-3C44-4C04-AEFC-61E644DE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9F7E-5E23-4EF3-B313-CFB2E299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9171-C29C-483F-8855-36D40F66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117A4-C4FC-4072-83B1-01D0EA620D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Gabriela Mont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Gabriela Monte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Gabriela Montes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Gabriela Monte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Gabriela Monte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114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752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i nombre es Gabriela Yo vivo en Nueva York. Tengo catorce años. Tengo dos hermano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49536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743200" y="327672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146320" y="4492800"/>
            <a:ext cx="431640" cy="63324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Gabriel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114640" y="51814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743200" y="5257800"/>
            <a:ext cx="434340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2041560" y="6016680"/>
            <a:ext cx="536400" cy="7858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3T14:55:47Z</dcterms:modified>
  <cp:revision>103</cp:revision>
  <dc:subject/>
  <dc:title>Profile</dc:title>
</cp:coreProperties>
</file>